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26E-6D42-49A3-B860-761618A1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94E-E198-42C7-910E-4B58678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836-0F3E-4E5C-8DFF-EDBDFFDD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AFA-C8F4-419F-A781-ABAED69F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F7B-8626-4197-B3A8-49A796CA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E0C-96CE-4222-90CB-FD4CF445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6B78-89FB-410A-8D25-BA2DADD5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E0FB-AE1D-4637-BA60-9ECC847F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690-8A58-493B-8FDB-E8249DF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D31E-E25C-43B2-9D19-CD6EA5DC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A14-DD86-4F18-A324-33220CB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FE0-3C14-4E36-83AA-270A88C8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49EA-CB14-4BE6-8674-E376062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2414-421D-4AD7-B560-01AA02CB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455-8318-45B8-83A5-7C0446CC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1A4D-A939-4148-A091-7AC52E15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572-9572-4075-AC81-90FA7686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79B-9E1F-40A7-B9E9-13DD7361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E52-33C3-455A-AAB4-CFAE78C9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923-FCC0-4F1B-9848-DB49D335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A1B-59C6-4DE5-9785-BDEA3CA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E17-6F7B-400C-ABB0-7D44B24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64F-4E1F-42DD-BACE-C9BAED8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B97-EC67-4608-A450-54E7561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A7A-7954-4A6E-AA18-92841548E561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749-ABC4-4531-9A7A-EF9F14E5D3C2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ITL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CHIPA DE PROI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Nume, prenume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lasa, 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şcoa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914400" y="213372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Întrebarea de unita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ele proiectulu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1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2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3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Concluzi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858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6666"/>
                </a:solidFill>
                <a:latin typeface="Times New Roman"/>
              </a:rPr>
              <a:t>Bibliograf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28T15:27:09Z</dcterms:modified>
  <cp:revision>403</cp:revision>
  <dc:subject/>
  <dc:title>Evaluare_initiala</dc:title>
</cp:coreProperties>
</file>